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20F-7145-4145-B0F9-4B93A0C0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EAE-9A2C-4AC5-84E1-48FD9C2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214-350F-4C91-B65B-6EE09C2C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30E-A0E2-4FCA-A9C4-E6BF8196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5CD-A4CC-4FB6-B3FD-1E2AFC97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F4F-FDA5-4A4A-B71F-556457D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8F9-DB28-4D00-9825-2EBE5A5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7FB-2D8C-452C-ABD0-B5AD429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FB3-982D-4B9A-9F33-882CDB50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FC2-7727-4F79-9B70-2C0D48F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132-339F-4B0D-A296-4EE3062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1B3-E7B8-499A-B41A-4CC623C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D17F-586B-4742-8FA0-0BADAB5E72A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36640" y="2792520"/>
            <a:ext cx="5664240" cy="1779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net is increasingly challenging us to revisit our roles as educators in cense making, coaching, and credenti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Media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 for online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Pressures and classroom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2262240" y="208080"/>
            <a:ext cx="3906720" cy="177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teach the use of this med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prepare students to separate the good from the b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eachers being prepared for the ever growing libr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596880" y="208080"/>
            <a:ext cx="7765920" cy="1773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use the same style of evaluations for these texts? (running rec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y written in the same format as other tex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ducators need to prepare their studnets before reading? (pre, during, post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6480" y="208080"/>
            <a:ext cx="8905680" cy="1773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funding means digital copies are ea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ible pages become digital cop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emand of students, digital based copies means less money spent in each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money spent on texts means more money spent on technology (idea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901800" y="208080"/>
            <a:ext cx="7132680" cy="1773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pressure means teachers need to rely on technology for their class to r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need access to digitial medi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is mean educators live and teach by the wireless conn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6767640" cy="1773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changes so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afford to update our classrooms every time the software or hardware needs to be upd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verhead projector is still being used because schools can’t afford LCD projectors, Whiteboards are being used because smart boards cant be afforded, the trend will contin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755640" y="285840"/>
            <a:ext cx="7645320" cy="177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izon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net.educause.edu/ir/library/pdf/HR201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4:51:33Z</dcterms:created>
  <dc:creator>user</dc:creator>
  <dc:description/>
  <dc:language>en-US</dc:language>
  <cp:lastModifiedBy>Province of NS</cp:lastModifiedBy>
  <dcterms:modified xsi:type="dcterms:W3CDTF">2012-06-30T17:24:30Z</dcterms:modified>
  <cp:revision>6</cp:revision>
  <dc:subject/>
  <dc:title>Ch2 Question 1</dc:title>
</cp:coreProperties>
</file>